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12D-15E0-4BAD-A01B-F0BBAD1E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301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7C3-BBF5-4AFB-97AE-E7FA6B18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EDC-8953-4884-8957-2712B7B9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60F-34A7-442C-9FF9-587EBB35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256C-B21C-4BDD-9527-09EE83F3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48C5-9410-4AE6-8430-D10F03D7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32E0-CCC1-4D5A-B559-5BF97C1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9775-FA5B-4F82-B0A6-8AB49BE3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20C4-DBA1-4AB5-AD96-60E30458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26D2-B56E-42F9-8C28-03DFD7B5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4B7F-C505-49E7-8B2B-5E530071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0DB-82B3-45EC-8C39-DF736F1B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963-1723-4B5C-BD58-C6F303F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135B-D3B7-49FC-9184-C8481C9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301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6462-16D6-432A-BD67-2135E372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5707-289B-46D8-B34E-C3A56BC5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30120"/>
            <a:ext cx="264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6670-B930-4127-800F-C6E7761D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662-DF7E-4576-AFCB-268E56B3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07F-6166-4299-87D2-07D4603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45D-D02E-4EBE-B405-99D8E7D5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49C-A043-4B36-834C-7983C50A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7B3-01D3-46D2-AE71-2575A7CA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301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780-143E-4DE5-A359-56535E1D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30120"/>
            <a:ext cx="822960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2528-5A70-424B-8CD3-AA841701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865-9C3E-4BE3-8B3E-AEE41B28918B}" type="slidenum">
              <a:rPr b="0" lang="en-US" sz="14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293C-433A-482B-A893-97CF01E3EB7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 Tell The Good News”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12, Lesson 1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cts 2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194-19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143000"/>
            <a:ext cx="8076960" cy="2438280"/>
          </a:xfrm>
          <a:prstGeom prst="ellipse">
            <a:avLst/>
          </a:prstGeom>
          <a:noFill/>
          <a:ln w="889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5665-FDB5-4D05-8B43-BB999C55F909}" type="slidenum">
              <a:t>1</a:t>
            </a:fld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Preaches to Felix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25-2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ached righteousness, temperance, judgment to co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 fearfully rejected the messag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 away for now; when I have a convenient time I will call for you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s happened time after time over a two year peri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hoped for a bribe to set Paul fre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stus succeeded Felix as govern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ABA-3E50-4DE8-A513-9652F7AD943C}" type="slidenum">
              <a:t>10</a:t>
            </a:fld>
          </a:p>
        </p:txBody>
      </p:sp>
    </p:spTree>
  </p:cSld>
  <p:transition spd="med">
    <p:zoom dir="in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rom The Last Lesson..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ul reached Jerusalem with the gif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on mob violence was started by Asian Jew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ul was rescued by Roman soldi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d his Roman citizenshi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fended himself before the m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ken before the Jewish Counci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ws plotted to kill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, he was taken to Caesa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B35-2A5B-4686-B9FA-24F0C14C4BBE}" type="slidenum">
              <a:t>2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649-F848-40D9-9CC8-77492B2A063D}" type="slidenum">
              <a:t>3</a:t>
            </a:fld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1-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, the governor, to hear the case against Pa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Jews arrived with Tertullus, their orator/attorney, to press charg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rtullus “buttered” up the jud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ccusati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estilent fel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mover of sedition among the Je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ringleader of the sect of the Nazare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profaned the tem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41F-7A2B-49F9-A630-1DEC78E49CBF}" type="slidenum">
              <a:t>4</a:t>
            </a:fld>
          </a:p>
        </p:txBody>
      </p:sp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7-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rtullus went furthe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 tried to judge him according to our la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Romans, with great violence, took him from 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accusers were commanded to come before yo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Jews agreed to all of the charg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 then asked Paul to spea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152-923D-468B-A5CA-7F802F56F60D}" type="slidenum">
              <a:t>5</a:t>
            </a:fld>
          </a:p>
        </p:txBody>
      </p:sp>
    </p:spTree>
  </p:cSld>
  <p:transition spd="med"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Defense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10-1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ul’s respons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was in the area only 12 day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went to Jerusalem to worshi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am not a troublemak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did not start a disturb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ccording to the Way, I do serv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believe all things written in the law and in the prophe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y hope is in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517-767F-40D0-B455-D81F8CC53632}" type="slidenum">
              <a:t>6</a:t>
            </a:fld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Defense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15-1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y hope i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the resurrection of the just and unju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clear conscience before God and m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came to Jerusalem to bring offerings to my n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found me in the temple, being purified, and with no crowd or upro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Asian Jews started the troub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347-98BB-414C-BFC2-4ABE64E789C1}" type="slidenum">
              <a:t>7</a:t>
            </a:fld>
          </a:p>
        </p:txBody>
      </p:sp>
    </p:spTree>
  </p:cSld>
  <p:transition spd="med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ul Defense Before Felix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19-2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sian Jews should be here to make their own accus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se men here ought to tell what evil I did before the Council, except this one thing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 did shout out, “Concerning the resurrection of the dead I am being judged by you this day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73E-D121-4202-B04F-446D43AB50DC}" type="slidenum">
              <a:t>8</a:t>
            </a:fld>
          </a:p>
        </p:txBody>
      </p:sp>
    </p:spTree>
  </p:cSld>
  <p:transition spd="med">
    <p:zoom dir="in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elix Procrastinates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cts 24:22-2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 wanted Lysias, the commander who rescued Paul, to come down to Caesa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lix knew something about the W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d governed Judea for 6 ye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wife, Drusilla, was a Je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ter a few days, he called for Pa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anted to hear more about Jes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101-8B1F-4521-B6CF-281BA0B5BBA9}" type="slidenum">
              <a:t>9</a:t>
            </a:fld>
          </a:p>
        </p:txBody>
      </p:sp>
    </p:spTree>
  </p:cSld>
  <p:transition spd="med">
    <p:zoom dir="in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7:06:33Z</dcterms:created>
  <dc:creator>Frank D Vines</dc:creator>
  <dc:description/>
  <dc:language>en-US</dc:language>
  <cp:lastModifiedBy>Frank D Vines</cp:lastModifiedBy>
  <dcterms:modified xsi:type="dcterms:W3CDTF">2007-01-16T17:39:13Z</dcterms:modified>
  <cp:revision>14</cp:revision>
  <dc:subject/>
  <dc:title>“Go Tell The Good News” Part 2</dc:title>
</cp:coreProperties>
</file>